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0662-3662-459A-8891-25A012646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3931-063C-4260-902A-939AFD0C6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330-3470-4A4C-9963-96393B2C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814-86BD-4190-8BE8-E6628460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C56F-802A-4EFE-8D30-427B8091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BB12-334D-4078-92C2-DAD855D7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428B-8127-461A-A1DC-86181D82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84FE-1268-4EDD-A980-6508467C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166-BA5B-4D00-9A40-A9C3E8CF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8050-64B9-4F70-B8A5-EC945B62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FD3B-7295-4F94-B1A0-A458970C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EE38-EC27-45A0-B459-8818BCFD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6D71-9FEF-47B6-83BC-E0258957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E037-905D-41E1-8B3F-458398A9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E44C-A9DD-466A-A234-1485B26A1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УНИВЕРЗИТЕТ У КРАГУЈЕВЦУ</a:t>
            </a:r>
            <a:br>
              <a:rPr sz="1200"/>
            </a:b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ФАКУЛТЕТ МЕДИЦИНСКИХ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26370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новни принципи рада на покретној траци за испитивање физиологије напора пац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чање као модел тренинга пац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647080" y="4869000"/>
            <a:ext cx="3944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Проф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 др Владимир Живкови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832840" y="2060640"/>
            <a:ext cx="333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ДОКТОРСКЕ АКАДЕМСКЕ СТУД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3132000" y="260280"/>
            <a:ext cx="1690920" cy="1228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Dfso"/>
          <p:cNvPicPr/>
          <p:nvPr/>
        </p:nvPicPr>
        <p:blipFill>
          <a:blip r:embed="rId2"/>
          <a:stretch/>
        </p:blipFill>
        <p:spPr>
          <a:xfrm>
            <a:off x="4859280" y="476280"/>
            <a:ext cx="92556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токол оспособљавања пацова за трчање на покретној трац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ва два дана пацови се постављају да трче на покретну трак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з стимулус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8м/мин) током 1 – 3 мину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раживач све време прати њихово трчање и усмерава их напред у случају да се окрену назад (може се користити штап или четкиц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редна два дана пацови се тренирају да ануче да ће доћи у контакт са ел. решетком (стимулатором) уколико престану да трче (јер се трака све време покреће);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л. стимулација се укључу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цови наредних неколико дана трче са постепеним повећањем брзине трчања до 10м/мин и трајања трчања до 10 мину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ест за одређивање максималне брзин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кон петоминутног загревања (8м/мин, 5 мин) подесити брзину траке на 12м/м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рзина се потом повећавса на за 4,2 м/мин сваког мину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ксималном брзином се сматра највећа брзина коју пацови могу да издрже најмање 1 мину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итеријум за исцрпљењ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трећи контакт са ел. решетком и губитак рефлекса усправљања када се пацов постави на леђ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отокол 1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тренинг умереног интензитета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 u="sng">
                <a:solidFill>
                  <a:srgbClr val="000000"/>
                </a:solidFill>
                <a:uFillTx/>
                <a:latin typeface="Calibri"/>
              </a:rPr>
              <a:t>Адаптацији на трчање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трчање брзином од 8m/min 30 минута, једном дневно, 5 х недељ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MIT тренажни процес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erate intensity training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четири недеље 60 минута дневно при чему се постепено повећа брзина (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m/min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1. недеља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m/min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60 минут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недеља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m/min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60 минут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3. недеља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m/min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60 минут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недеља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m/min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60 минут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отокол 2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тренинг високог интензитета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 u="sng">
                <a:solidFill>
                  <a:srgbClr val="000000"/>
                </a:solidFill>
                <a:uFillTx/>
                <a:latin typeface="Calibri"/>
              </a:rPr>
              <a:t>Адаптацији на трчање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трчање брзином од 8m/min 30 минута, једном дневно, 5 х недељ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IIT тренажни процес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gh intensity interval training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четири недељ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 циклуса дневно (90 s трчања/90 s пауза)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и чему се постепено повећа брзина (40-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m/min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1. недеља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/min, 90 s трчања/90 s пауза, 5 циклуса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недеља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/min, 90 s трчања/90 s пауза, 5 циклуса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3. недеља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/min, 90 s трчања/90 s пауза, 5 циклуса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недеља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/min, 90 s трчања/90 s пауза, 5 циклуса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Ð ÐµÐ·ÑÐ»ÑÐ°Ñ ÑÐ»Ð¸ÐºÐ° Ð·Ð° publication"/>
          <p:cNvPicPr/>
          <p:nvPr/>
        </p:nvPicPr>
        <p:blipFill>
          <a:blip r:embed="rId1"/>
          <a:stretch/>
        </p:blipFill>
        <p:spPr>
          <a:xfrm>
            <a:off x="2627280" y="2708280"/>
            <a:ext cx="3889440" cy="2592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2917800" y="1773360"/>
            <a:ext cx="34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ПУБЛИКА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бликабилна оправданост мо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колико радова у припреми за публикацију на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SCI/CC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и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3 д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кторске дисер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1 докторска дисертација у завршној фа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2 докторске дисертације у фази изра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д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ifferent training models in mices and rats: role of mR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ffects of MIT and HIIT training regimes on cardyodinamic parameters in isolated rat he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ОКТОРСКЕ ДИСЕР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ршене докторске дисертације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иљана Јаковљевић.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Утицај различитих модалитета физичке активности на крвни притисак и функцију миокарда пац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кторске дисертациј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завршној фаз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ељко Прокић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тицај комбиноване примене ергогених средстава и физичке активности високог интензитета на срчану функцију и оксидациони стрес пац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Јелена Ристић. Утицај хроничног прекондиционирања инхибиторима фосфодиестеразе 1 самостално и у комбинацији са физичком активношћу на функционални опоравак изолованог срца пац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рчање као експериментални модел физиологије напора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базичне информације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220464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чање се сматра другим најоптималнијим видом физичке активности за пацов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оси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ив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чање такође представља природан вид физичке активности пац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изичка активност која се брзо учи (2-3 да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оком последње деценије најчешће коришћен вид за испитивање физиологије напора експерименталних животи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годан модел за одржавање, чишћење, чув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Мотивисаност се учи! (посредована је стимулусом, нпр.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л струј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ије потребан дуг период адаптациј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ије превише стресна активност за пацове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у смањењу ефекта стреса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је важан период адаптације на траку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рчање као експериментални модел физиологије напора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специфичне информације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ацови развијају читав низ трикова којима умањују ефективно време трчањ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скакутање, стајање, окретање у супротну страну од правца кретања траке ит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то је потребно је водити рачуна да се омогући (готово) искључиво активност трч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и који допринос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скључењу ових адаптибилних форми понашањ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правилно спроведен период адаптације/учења (7 да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континуирани мониторинг испитивача (корекција штапиће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Посебна опасност је могућност повреде услед присуства ел.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с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тимулације на крајевима тра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кретна трака као експериментални модел физиологије напор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pro et contra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Ð ÐµÐ·ÑÐ»ÑÐ°Ñ ÑÐ»Ð¸ÐºÐ° Ð·Ð° pro et contra"/>
          <p:cNvPicPr/>
          <p:nvPr/>
        </p:nvPicPr>
        <p:blipFill>
          <a:blip r:embed="rId1"/>
          <a:stretch/>
        </p:blipFill>
        <p:spPr>
          <a:xfrm>
            <a:off x="3635280" y="1052640"/>
            <a:ext cx="1905120" cy="19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395280" y="3068640"/>
          <a:ext cx="8445600" cy="3032280"/>
        </p:xfrm>
        <a:graphic>
          <a:graphicData uri="http://schemas.openxmlformats.org/drawingml/2006/table">
            <a:tbl>
              <a:tblPr/>
              <a:tblGrid>
                <a:gridCol w="4222800"/>
                <a:gridCol w="4222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тензитет вежбања се може прецизно дозира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гућност озледе на ел. стимулато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д који животиња изврши се може се прецизно квантификова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ша цена уређаја у односу на баз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фтверско дизајнирање и чувањераличитих протокола тренин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икованије коришћење у односу на баз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захтева велики прос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ли период адапта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рактеристике траке за трчање пац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3816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адмил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цов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крет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ак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чањ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лагође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томским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изиолошким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рактеристикам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лих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ксперменталних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животи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7320" indent="-517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луж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ој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ункционал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питивањ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изичког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жбањ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нинг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њиховог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тицај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личит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изиолошк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толошк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це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73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Treadmill"/>
          <p:cNvPicPr/>
          <p:nvPr/>
        </p:nvPicPr>
        <p:blipFill>
          <a:blip r:embed="rId1"/>
          <a:stretch/>
        </p:blipFill>
        <p:spPr>
          <a:xfrm>
            <a:off x="4427640" y="1733400"/>
            <a:ext cx="4105080" cy="45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рактеристике траке за трчање пац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3816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42800" indent="-442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ист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и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крет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а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4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воје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зуел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за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мпартма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менз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год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цов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иј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дн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лаз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лектрич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имулација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ист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гатив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крепље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гућност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зитив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ркепље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ротн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а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0" indent="-442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могуће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дулац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нагиб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смер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брзине</a:t>
            </a:r>
            <a:br>
              <a:rPr sz="2000"/>
            </a:b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кретањ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трак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као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јачин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стимулу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Treadmill"/>
          <p:cNvPicPr/>
          <p:nvPr/>
        </p:nvPicPr>
        <p:blipFill>
          <a:blip r:embed="rId1"/>
          <a:stretch/>
        </p:blipFill>
        <p:spPr>
          <a:xfrm>
            <a:off x="4427640" y="1733400"/>
            <a:ext cx="4105080" cy="45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рактеристике траке за трчање пац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3816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прављањ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истем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гућ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нуел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рект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не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м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дмил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хваљујућ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могућено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муникаци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чунар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гитал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прављ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менск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грам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моћ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г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гућ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апре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финиса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токо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а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уж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ременск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ериод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treadmill"/>
          <p:cNvPicPr/>
          <p:nvPr/>
        </p:nvPicPr>
        <p:blipFill>
          <a:blip r:embed="rId1"/>
          <a:stretch/>
        </p:blipFill>
        <p:spPr>
          <a:xfrm>
            <a:off x="4284720" y="2565360"/>
            <a:ext cx="4464000" cy="28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офтвер траке за трчање пац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Treadmill_software"/>
          <p:cNvPicPr/>
          <p:nvPr/>
        </p:nvPicPr>
        <p:blipFill>
          <a:blip r:embed="rId1"/>
          <a:stretch/>
        </p:blipFill>
        <p:spPr>
          <a:xfrm>
            <a:off x="900000" y="1197000"/>
            <a:ext cx="743436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офтвер траке за трчање пац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Treadmill_software"/>
          <p:cNvPicPr/>
          <p:nvPr/>
        </p:nvPicPr>
        <p:blipFill>
          <a:blip r:embed="rId1"/>
          <a:stretch/>
        </p:blipFill>
        <p:spPr>
          <a:xfrm>
            <a:off x="755640" y="1341360"/>
            <a:ext cx="74883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17:59:30Z</dcterms:created>
  <dc:creator>Vlada Zivkovic</dc:creator>
  <dc:description/>
  <dc:language>en-US</dc:language>
  <cp:lastModifiedBy>Vladimir Zivkovic</cp:lastModifiedBy>
  <dcterms:modified xsi:type="dcterms:W3CDTF">2020-06-07T12:33:39Z</dcterms:modified>
  <cp:revision>226</cp:revision>
  <dc:subject/>
  <dc:title>Slide 1</dc:title>
</cp:coreProperties>
</file>